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14.png" ContentType="image/png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E84-3C7E-408D-BE48-94EB3FA5E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7F0-8607-4AD1-9747-8511CDD9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E7CF-1251-42FB-9924-F21D7312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571-40D5-4CB8-82B2-29797619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8D7-745D-4680-963E-4B17E8AD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144F-47A4-4DEA-A2B5-BFBDA406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E7C5-7E90-442B-9DAE-729BC372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838-117E-4E64-BCF8-2C70187E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CE4-3F74-4E84-AAB7-5C63EE6D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4CE-B245-4691-A935-8FE26F43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9D1-5ECD-4B0A-BE9E-073A96C2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41A-C8D3-408A-B6AD-593FA27F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6151-673D-4685-8EFE-918E28B46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5470-8B4F-4CFE-955D-DF281270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7A7-9343-40E2-93FC-25CCC8504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031D-0BFA-4439-8558-BC02EE0D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D5A-EB93-449C-B515-6E8CC010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BAD2-7278-44BE-B78F-F8FB2AEE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0C0-DDB1-45DF-8BE9-A191B185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9EC-B9F4-4A8B-8423-3B8493BB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0FD-E8DC-47D2-B96D-609A6A82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14AD-3800-45C8-8942-CFF57B15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627-99CB-46FE-9896-1D3EEA7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D30-3D1F-47DD-A11F-8D14C7B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28D-0285-40CA-821F-B91DBD97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25E-119A-4F56-9A05-A5E607CA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0CC-29E3-431E-924F-7D0BA55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2BE-89F6-493D-8DC5-BD10938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B4A-6B0E-4A2E-8936-80D36BE3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64F-B632-453B-A0B6-1EEBCB60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824-B206-4CBE-BD34-407077D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B70-98D2-49E8-8320-A159C17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CF2-ECA4-479B-9E2E-DD49082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C18-EC55-4361-ACFA-41D01C6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9F5-DCB8-4DCE-8BC0-333CE65F3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dd Pair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奇怪的一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helby Bu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3809880" y="15238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4"/>
          <p:cNvSpPr/>
          <p:nvPr/>
        </p:nvSpPr>
        <p:spPr>
          <a:xfrm flipV="1">
            <a:off x="3886200" y="2590920"/>
            <a:ext cx="225360" cy="108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1523880" y="317664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Tsu-kun\AppData\Local\Microsoft\Windows\Temporary Internet Files\Content.IE5\1B3R9PBO\MCj04322350000[1].wmf"/>
          <p:cNvPicPr/>
          <p:nvPr/>
        </p:nvPicPr>
        <p:blipFill>
          <a:blip r:embed="rId3"/>
          <a:srcRect l="0" t="0" r="0" b="19325"/>
          <a:stretch/>
        </p:blipFill>
        <p:spPr>
          <a:xfrm>
            <a:off x="1655640" y="2438280"/>
            <a:ext cx="1219320" cy="1046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5867280" y="6858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unhappy to se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看到猫不高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4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5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666880" y="1219320"/>
            <a:ext cx="1832040" cy="2422440"/>
            <a:chOff x="2666880" y="1219320"/>
            <a:chExt cx="1832040" cy="2422440"/>
          </a:xfrm>
        </p:grpSpPr>
        <p:pic>
          <p:nvPicPr>
            <p:cNvPr id="107" name="Picture 2" descr="C:\Documents and Settings\sburton\Local Settings\Temporary Internet Files\Content.IE5\45HGRHJD\MCj04260060000[1].wmf"/>
            <p:cNvPicPr/>
            <p:nvPr/>
          </p:nvPicPr>
          <p:blipFill>
            <a:blip r:embed="rId1"/>
            <a:stretch/>
          </p:blipFill>
          <p:spPr>
            <a:xfrm>
              <a:off x="2666880" y="1219320"/>
              <a:ext cx="1832040" cy="24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Freeform 4"/>
            <p:cNvSpPr/>
            <p:nvPr/>
          </p:nvSpPr>
          <p:spPr>
            <a:xfrm flipV="1">
              <a:off x="2742840" y="2285280"/>
              <a:ext cx="225360" cy="10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990720" y="2590920"/>
            <a:ext cx="1882800" cy="3038400"/>
            <a:chOff x="990720" y="2590920"/>
            <a:chExt cx="1882800" cy="3038400"/>
          </a:xfrm>
        </p:grpSpPr>
        <p:grpSp>
          <p:nvGrpSpPr>
            <p:cNvPr id="110" name="Group 10"/>
            <p:cNvGrpSpPr/>
            <p:nvPr/>
          </p:nvGrpSpPr>
          <p:grpSpPr>
            <a:xfrm>
              <a:off x="990720" y="2590920"/>
              <a:ext cx="1882800" cy="3038400"/>
              <a:chOff x="990720" y="2590920"/>
              <a:chExt cx="1882800" cy="3038400"/>
            </a:xfrm>
          </p:grpSpPr>
          <p:pic>
            <p:nvPicPr>
              <p:cNvPr id="111" name="Picture 7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3809880"/>
                <a:ext cx="164808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3"/>
              <a:srcRect l="0" t="0" r="0" b="21734"/>
              <a:stretch/>
            </p:blipFill>
            <p:spPr>
              <a:xfrm>
                <a:off x="990720" y="259092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Freeform 11"/>
            <p:cNvSpPr/>
            <p:nvPr/>
          </p:nvSpPr>
          <p:spPr>
            <a:xfrm flipV="1">
              <a:off x="1828800" y="472392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2"/>
          <p:cNvSpPr/>
          <p:nvPr/>
        </p:nvSpPr>
        <p:spPr>
          <a:xfrm>
            <a:off x="609480" y="609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told her son to stop playing in the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叫她的儿子别再在森林里玩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forest-chinese.jpg"/>
          <p:cNvPicPr/>
          <p:nvPr/>
        </p:nvPicPr>
        <p:blipFill>
          <a:blip r:embed="rId4"/>
          <a:stretch/>
        </p:blipFill>
        <p:spPr>
          <a:xfrm>
            <a:off x="4648320" y="1981080"/>
            <a:ext cx="4343400" cy="4116600"/>
          </a:xfrm>
          <a:prstGeom prst="rect">
            <a:avLst/>
          </a:prstGeom>
          <a:ln w="0">
            <a:noFill/>
          </a:ln>
        </p:spPr>
      </p:pic>
      <p:sp>
        <p:nvSpPr>
          <p:cNvPr id="116" name="&quot;No&quot; Symbol 14"/>
          <p:cNvSpPr/>
          <p:nvPr/>
        </p:nvSpPr>
        <p:spPr>
          <a:xfrm>
            <a:off x="4800600" y="2057400"/>
            <a:ext cx="3809880" cy="396252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5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75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1219320" y="380988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3"/>
          <p:cNvSpPr/>
          <p:nvPr/>
        </p:nvSpPr>
        <p:spPr>
          <a:xfrm flipV="1">
            <a:off x="1828800" y="4724280"/>
            <a:ext cx="225360" cy="10800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7391520" y="914400"/>
            <a:ext cx="1482480" cy="1876320"/>
            <a:chOff x="7391520" y="914400"/>
            <a:chExt cx="1482480" cy="1876320"/>
          </a:xfrm>
        </p:grpSpPr>
        <p:pic>
          <p:nvPicPr>
            <p:cNvPr id="122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7391520" y="914400"/>
              <a:ext cx="14824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7"/>
            <p:cNvSpPr/>
            <p:nvPr/>
          </p:nvSpPr>
          <p:spPr>
            <a:xfrm flipV="1">
              <a:off x="7980480" y="19281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Straight Arrow Connector 10"/>
          <p:cNvCxnSpPr/>
          <p:nvPr/>
        </p:nvCxnSpPr>
        <p:spPr>
          <a:xfrm flipH="1">
            <a:off x="2895120" y="1599120"/>
            <a:ext cx="37346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Straight Arrow Connector 12"/>
          <p:cNvCxnSpPr/>
          <p:nvPr/>
        </p:nvCxnSpPr>
        <p:spPr>
          <a:xfrm flipH="1">
            <a:off x="3276000" y="2133720"/>
            <a:ext cx="381060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TextBox 13"/>
          <p:cNvSpPr/>
          <p:nvPr/>
        </p:nvSpPr>
        <p:spPr>
          <a:xfrm>
            <a:off x="685800" y="6094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tched the dog walk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看着狗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orded Sound" descr=""/>
          <p:cNvPicPr/>
          <p:nvPr/>
        </p:nvPicPr>
        <p:blipFill>
          <a:blip r:embed="rId3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50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4114800" y="2666880"/>
            <a:ext cx="1482840" cy="1876680"/>
            <a:chOff x="4114800" y="2666880"/>
            <a:chExt cx="1482840" cy="1876680"/>
          </a:xfrm>
        </p:grpSpPr>
        <p:pic>
          <p:nvPicPr>
            <p:cNvPr id="130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4114800" y="2666880"/>
              <a:ext cx="148284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3"/>
            <p:cNvSpPr/>
            <p:nvPr/>
          </p:nvSpPr>
          <p:spPr>
            <a:xfrm flipV="1">
              <a:off x="4703760" y="368064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762120" y="838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很伤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35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38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39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C:\Documents and Settings\sburton\Local Settings\Temporary Internet Files\Content.IE5\30GCO75N\MCj04381690000[1].wmf"/>
              <p:cNvPicPr/>
              <p:nvPr/>
            </p:nvPicPr>
            <p:blipFill>
              <a:blip r:embed="rId3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4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5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Cloud Callout 9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0"/>
          <p:cNvSpPr/>
          <p:nvPr/>
        </p:nvSpPr>
        <p:spPr>
          <a:xfrm>
            <a:off x="3657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d lost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失去了一个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"/>
          <p:cNvGrpSpPr/>
          <p:nvPr/>
        </p:nvGrpSpPr>
        <p:grpSpPr>
          <a:xfrm>
            <a:off x="1371600" y="1143000"/>
            <a:ext cx="1482840" cy="1876320"/>
            <a:chOff x="1371600" y="1143000"/>
            <a:chExt cx="1482840" cy="1876320"/>
          </a:xfrm>
        </p:grpSpPr>
        <p:pic>
          <p:nvPicPr>
            <p:cNvPr id="147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Freeform 3"/>
            <p:cNvSpPr/>
            <p:nvPr/>
          </p:nvSpPr>
          <p:spPr>
            <a:xfrm flipV="1">
              <a:off x="1960560" y="2156760"/>
              <a:ext cx="225360" cy="1076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" descr="C:\Documents and Settings\sburton\Local Settings\Temporary Internet Files\Content.IE5\45HGRHJD\MCj04260060000[1].wmf"/>
          <p:cNvPicPr/>
          <p:nvPr/>
        </p:nvPicPr>
        <p:blipFill>
          <a:blip r:embed="rId2"/>
          <a:stretch/>
        </p:blipFill>
        <p:spPr>
          <a:xfrm>
            <a:off x="6019920" y="990720"/>
            <a:ext cx="1831680" cy="24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Tsu-kun\AppData\Local\Microsoft\Windows\Temporary Internet Files\Content.IE5\1B3R9PBO\MCj04348590000[1].png"/>
          <p:cNvPicPr/>
          <p:nvPr/>
        </p:nvPicPr>
        <p:blipFill>
          <a:blip r:embed="rId3"/>
          <a:stretch/>
        </p:blipFill>
        <p:spPr>
          <a:xfrm>
            <a:off x="3581280" y="1143000"/>
            <a:ext cx="17146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7"/>
          <p:cNvGrpSpPr/>
          <p:nvPr/>
        </p:nvGrpSpPr>
        <p:grpSpPr>
          <a:xfrm>
            <a:off x="2514600" y="4267080"/>
            <a:ext cx="3124080" cy="1852560"/>
            <a:chOff x="2514600" y="4267080"/>
            <a:chExt cx="3124080" cy="1852560"/>
          </a:xfrm>
        </p:grpSpPr>
        <p:pic>
          <p:nvPicPr>
            <p:cNvPr id="152" name="Picture 3" descr="C:\Documents and Settings\sburton\Local Settings\Temporary Internet Files\Content.IE5\Y39XOFVM\MCj04381670000[1].wmf"/>
            <p:cNvPicPr/>
            <p:nvPr/>
          </p:nvPicPr>
          <p:blipFill>
            <a:blip r:embed="rId4"/>
            <a:stretch/>
          </p:blipFill>
          <p:spPr>
            <a:xfrm>
              <a:off x="2514600" y="5041440"/>
              <a:ext cx="120528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C:\Documents and Settings\sburton\Local Settings\Temporary Internet Files\Content.IE5\30GCO75N\MCj04381690000[1].wmf"/>
            <p:cNvPicPr/>
            <p:nvPr/>
          </p:nvPicPr>
          <p:blipFill>
            <a:blip r:embed="rId5"/>
            <a:stretch/>
          </p:blipFill>
          <p:spPr>
            <a:xfrm>
              <a:off x="4294080" y="4967640"/>
              <a:ext cx="133956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" descr="C:\Users\Tsu-kun\AppData\Local\Microsoft\Windows\Temporary Internet Files\Content.IE5\1B3R9PBO\MCj04322350000[1].wmf"/>
            <p:cNvPicPr/>
            <p:nvPr/>
          </p:nvPicPr>
          <p:blipFill>
            <a:blip r:embed="rId6"/>
            <a:srcRect l="0" t="0" r="0" b="19325"/>
            <a:stretch/>
          </p:blipFill>
          <p:spPr>
            <a:xfrm>
              <a:off x="2621520" y="4617360"/>
              <a:ext cx="99108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" descr="C:\Users\Tsu-kun\AppData\Local\Microsoft\Windows\Temporary Internet Files\Content.IE5\K2ZCTLF3\MCj04322650000[1].wmf"/>
            <p:cNvPicPr/>
            <p:nvPr/>
          </p:nvPicPr>
          <p:blipFill>
            <a:blip r:embed="rId7"/>
            <a:srcRect l="0" t="0" r="0" b="21734"/>
            <a:stretch/>
          </p:blipFill>
          <p:spPr>
            <a:xfrm>
              <a:off x="4108320" y="4267080"/>
              <a:ext cx="1530360" cy="7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TextBox 12"/>
          <p:cNvSpPr/>
          <p:nvPr/>
        </p:nvSpPr>
        <p:spPr>
          <a:xfrm>
            <a:off x="266688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asked the mother dog to let her play with he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请求母狗让她跟她的儿子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orded Sound" descr=""/>
          <p:cNvPicPr/>
          <p:nvPr/>
        </p:nvPicPr>
        <p:blipFill>
          <a:blip r:embed="rId8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Recorded Sound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5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2133720" y="609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ther dog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母狗不喜欢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162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orded Sound" descr=""/>
          <p:cNvPicPr/>
          <p:nvPr/>
        </p:nvPicPr>
        <p:blipFill>
          <a:blip r:embed="rId3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11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400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"/>
          <p:cNvGrpSpPr/>
          <p:nvPr/>
        </p:nvGrpSpPr>
        <p:grpSpPr>
          <a:xfrm>
            <a:off x="2514600" y="3352680"/>
            <a:ext cx="3581280" cy="2766960"/>
            <a:chOff x="2514600" y="3352680"/>
            <a:chExt cx="3581280" cy="2766960"/>
          </a:xfrm>
        </p:grpSpPr>
        <p:pic>
          <p:nvPicPr>
            <p:cNvPr id="166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2514600" y="4509360"/>
              <a:ext cx="1381680" cy="161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4554360" y="4398840"/>
              <a:ext cx="1535400" cy="156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2637360" y="3875760"/>
              <a:ext cx="113616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4341600" y="3352680"/>
              <a:ext cx="1754280" cy="11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2" descr="C:\Documents and Settings\sburton\Local Settings\Temporary Internet Files\Content.IE5\45HGRHJD\MCj04260060000[1].wmf"/>
          <p:cNvPicPr/>
          <p:nvPr/>
        </p:nvPicPr>
        <p:blipFill>
          <a:blip r:embed="rId5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71" name="&quot;No&quot; Symbol 7"/>
          <p:cNvSpPr/>
          <p:nvPr/>
        </p:nvSpPr>
        <p:spPr>
          <a:xfrm>
            <a:off x="2438280" y="4800600"/>
            <a:ext cx="1295640" cy="11430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371600" y="6094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idn’t want her son playing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不想她的儿子跟猫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Recorded Sound" descr=""/>
          <p:cNvPicPr/>
          <p:nvPr/>
        </p:nvPicPr>
        <p:blipFill>
          <a:blip r:embed="rId6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45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"/>
          <p:cNvGrpSpPr/>
          <p:nvPr/>
        </p:nvGrpSpPr>
        <p:grpSpPr>
          <a:xfrm>
            <a:off x="3505320" y="2590920"/>
            <a:ext cx="5790960" cy="4267080"/>
            <a:chOff x="3505320" y="2590920"/>
            <a:chExt cx="5790960" cy="4267080"/>
          </a:xfrm>
        </p:grpSpPr>
        <p:grpSp>
          <p:nvGrpSpPr>
            <p:cNvPr id="176" name="Group 4"/>
            <p:cNvGrpSpPr/>
            <p:nvPr/>
          </p:nvGrpSpPr>
          <p:grpSpPr>
            <a:xfrm>
              <a:off x="4572000" y="2666880"/>
              <a:ext cx="3843360" cy="3224160"/>
              <a:chOff x="4572000" y="2666880"/>
              <a:chExt cx="3843360" cy="3224160"/>
            </a:xfrm>
          </p:grpSpPr>
          <p:pic>
            <p:nvPicPr>
              <p:cNvPr id="177" name="Picture 3" descr="C:\Documents and Settings\sburton\Local Settings\Temporary Internet Files\Content.IE5\Y39XOFVM\MCj04381670000[1].wmf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4014720"/>
                <a:ext cx="1482840" cy="18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5" descr="C:\Documents and Settings\sburton\Local Settings\Temporary Internet Files\Content.IE5\30GCO75N\MCj04381690000[1].wmf"/>
              <p:cNvPicPr/>
              <p:nvPr/>
            </p:nvPicPr>
            <p:blipFill>
              <a:blip r:embed="rId2"/>
              <a:stretch/>
            </p:blipFill>
            <p:spPr>
              <a:xfrm>
                <a:off x="6761160" y="3885840"/>
                <a:ext cx="1647720" cy="18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" descr="C:\Users\Tsu-kun\AppData\Local\Microsoft\Windows\Temporary Internet Files\Content.IE5\1B3R9PBO\MCj04322350000[1].wmf"/>
              <p:cNvPicPr/>
              <p:nvPr/>
            </p:nvPicPr>
            <p:blipFill>
              <a:blip r:embed="rId3"/>
              <a:srcRect l="0" t="0" r="0" b="19325"/>
              <a:stretch/>
            </p:blipFill>
            <p:spPr>
              <a:xfrm>
                <a:off x="4703760" y="3276360"/>
                <a:ext cx="1219320" cy="104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3" descr="C:\Users\Tsu-kun\AppData\Local\Microsoft\Windows\Temporary Internet Files\Content.IE5\K2ZCTLF3\MCj04322650000[1].wmf"/>
              <p:cNvPicPr/>
              <p:nvPr/>
            </p:nvPicPr>
            <p:blipFill>
              <a:blip r:embed="rId4"/>
              <a:srcRect l="0" t="0" r="0" b="21734"/>
              <a:stretch/>
            </p:blipFill>
            <p:spPr>
              <a:xfrm>
                <a:off x="6532560" y="2666880"/>
                <a:ext cx="188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Cloud Callout 3"/>
            <p:cNvSpPr/>
            <p:nvPr/>
          </p:nvSpPr>
          <p:spPr>
            <a:xfrm>
              <a:off x="3505320" y="2590920"/>
              <a:ext cx="5790960" cy="4267080"/>
            </a:xfrm>
            <a:prstGeom prst="cloudCallout">
              <a:avLst>
                <a:gd name="adj1" fmla="val -20833"/>
                <a:gd name="adj2" fmla="val 625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C:\Documents and Settings\sburton\Local Settings\Temporary Internet Files\Content.IE5\30GCO75N\MCj04381690000[1].wmf"/>
          <p:cNvPicPr/>
          <p:nvPr/>
        </p:nvPicPr>
        <p:blipFill>
          <a:blip r:embed="rId5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2666880" y="4572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nted to play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狗想跟猫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orded Sound" descr=""/>
          <p:cNvPicPr/>
          <p:nvPr/>
        </p:nvPicPr>
        <p:blipFill>
          <a:blip r:embed="rId6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95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Tsu-kun\AppData\Local\Microsoft\Windows\Temporary Internet Files\Content.IE5\A3UJDGGF\MCj04135000000[1].wmf"/>
          <p:cNvPicPr/>
          <p:nvPr/>
        </p:nvPicPr>
        <p:blipFill>
          <a:blip r:embed="rId2"/>
          <a:stretch/>
        </p:blipFill>
        <p:spPr>
          <a:xfrm>
            <a:off x="2133720" y="1981080"/>
            <a:ext cx="1226880" cy="1724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Documents and Settings\sburton\Local Settings\Temporary Internet Files\Content.IE5\45HGRHJD\MCj0426006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200400" y="464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mom he would run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告诉他妈妈他会离家出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orded Sound" descr=""/>
          <p:cNvPicPr/>
          <p:nvPr/>
        </p:nvPicPr>
        <p:blipFill>
          <a:blip r:embed="rId4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4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6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sburton\Local Settings\Temporary Internet Files\Content.IE5\Y39XOFVM\MCj04381670000[1].wmf"/>
          <p:cNvPicPr/>
          <p:nvPr/>
        </p:nvPicPr>
        <p:blipFill>
          <a:blip r:embed="rId1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3830760" y="2490840"/>
            <a:ext cx="1482480" cy="1876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9907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只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3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7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629400" y="609480"/>
            <a:ext cx="1832040" cy="242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762120" y="1600200"/>
            <a:ext cx="1647720" cy="181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sburton\Local Settings\Temporary Internet Files\Content.IE5\GRBJJYRJ\MCj04381270000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816200" cy="7812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2971800" y="259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decided he could stay friends with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决定他能继续跟猫做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orded Sound" descr=""/>
          <p:cNvPicPr/>
          <p:nvPr/>
        </p:nvPicPr>
        <p:blipFill>
          <a:blip r:embed="rId4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55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1" descr=""/>
          <p:cNvPicPr/>
          <p:nvPr/>
        </p:nvPicPr>
        <p:blipFill>
          <a:blip r:embed="rId1"/>
          <a:stretch/>
        </p:blipFill>
        <p:spPr>
          <a:xfrm>
            <a:off x="1365120" y="311040"/>
            <a:ext cx="6888240" cy="5315040"/>
          </a:xfrm>
          <a:prstGeom prst="rect">
            <a:avLst/>
          </a:prstGeom>
          <a:ln w="0">
            <a:noFill/>
          </a:ln>
        </p:spPr>
      </p:pic>
      <p:pic>
        <p:nvPicPr>
          <p:cNvPr id="199" name="Recorded Sound" descr=""/>
          <p:cNvPicPr/>
          <p:nvPr/>
        </p:nvPicPr>
        <p:blipFill>
          <a:blip r:embed="rId2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321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burton\Local Settings\Temporary Internet Files\Content.IE5\GRBJJYRJ\MCj04381270000[1].wmf"/>
          <p:cNvPicPr/>
          <p:nvPr/>
        </p:nvPicPr>
        <p:blipFill>
          <a:blip r:embed="rId1"/>
          <a:stretch/>
        </p:blipFill>
        <p:spPr>
          <a:xfrm>
            <a:off x="3664080" y="3038400"/>
            <a:ext cx="1815840" cy="781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60020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ha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有个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-5335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burton\Local Settings\Temporary Internet Files\Content.IE5\30GCO75N\MCj04381690000[1].wmf"/>
          <p:cNvPicPr/>
          <p:nvPr/>
        </p:nvPicPr>
        <p:blipFill>
          <a:blip r:embed="rId1"/>
          <a:stretch/>
        </p:blipFill>
        <p:spPr>
          <a:xfrm>
            <a:off x="3747960" y="2519280"/>
            <a:ext cx="1648080" cy="181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19320" y="1066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friend was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的朋友是只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9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sburton\Local Settings\Temporary Internet Files\Content.IE5\Y39XOFVM\MCj04363260000[1].png"/>
          <p:cNvPicPr/>
          <p:nvPr/>
        </p:nvPicPr>
        <p:blipFill>
          <a:blip r:embed="rId1"/>
          <a:stretch/>
        </p:blipFill>
        <p:spPr>
          <a:xfrm>
            <a:off x="1523880" y="2438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981080" y="1066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’s mother did not like th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的妈妈不喜欢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sburton\Local Settings\Temporary Internet Files\Content.IE5\30GCO75N\MCj04381690000[1].wmf"/>
          <p:cNvPicPr/>
          <p:nvPr/>
        </p:nvPicPr>
        <p:blipFill>
          <a:blip r:embed="rId2"/>
          <a:stretch/>
        </p:blipFill>
        <p:spPr>
          <a:xfrm>
            <a:off x="6324480" y="3581280"/>
            <a:ext cx="1524240" cy="1683000"/>
          </a:xfrm>
          <a:prstGeom prst="rect">
            <a:avLst/>
          </a:prstGeom>
          <a:ln w="0">
            <a:noFill/>
          </a:ln>
        </p:spPr>
      </p:pic>
      <p:sp>
        <p:nvSpPr>
          <p:cNvPr id="68" name="&quot;No&quot; Symbol 6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96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31680" cy="2422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33720" y="609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’s mother did not like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狗的妈妈不喜欢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sburton\Local Settings\Temporary Internet Files\Content.IE5\Y39XOFVM\MCj04381670000[1].wmf"/>
          <p:cNvPicPr/>
          <p:nvPr/>
        </p:nvPicPr>
        <p:blipFill>
          <a:blip r:embed="rId2"/>
          <a:stretch/>
        </p:blipFill>
        <p:spPr>
          <a:xfrm>
            <a:off x="6095880" y="3276720"/>
            <a:ext cx="1482840" cy="1876320"/>
          </a:xfrm>
          <a:prstGeom prst="rect">
            <a:avLst/>
          </a:prstGeom>
          <a:ln w="0">
            <a:noFill/>
          </a:ln>
        </p:spPr>
      </p:pic>
      <p:sp>
        <p:nvSpPr>
          <p:cNvPr id="74" name="&quot;No&quot; Symbol 5"/>
          <p:cNvSpPr/>
          <p:nvPr/>
        </p:nvSpPr>
        <p:spPr>
          <a:xfrm>
            <a:off x="4191120" y="2590920"/>
            <a:ext cx="4343400" cy="39621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orded Sound" descr=""/>
          <p:cNvPicPr/>
          <p:nvPr/>
        </p:nvPicPr>
        <p:blipFill>
          <a:blip r:embed="rId3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1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apnaavenue.com/wp-content/uploads/cat_hugging_dog.jpg"/>
          <p:cNvPicPr/>
          <p:nvPr/>
        </p:nvPicPr>
        <p:blipFill>
          <a:blip r:embed="rId2"/>
          <a:srcRect l="7113" t="13377" r="12887" b="9032"/>
          <a:stretch/>
        </p:blipFill>
        <p:spPr>
          <a:xfrm>
            <a:off x="228600" y="26668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676520" y="6094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ir often played in the fores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这一对经常在森林里一起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3"/>
          <a:stretch/>
        </p:blipFill>
        <p:spPr>
          <a:xfrm>
            <a:off x="-4572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1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6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6"/>
          <p:cNvGrpSpPr/>
          <p:nvPr/>
        </p:nvGrpSpPr>
        <p:grpSpPr>
          <a:xfrm>
            <a:off x="3830760" y="1143000"/>
            <a:ext cx="3843360" cy="3224160"/>
            <a:chOff x="3830760" y="1143000"/>
            <a:chExt cx="3843360" cy="3224160"/>
          </a:xfrm>
        </p:grpSpPr>
        <p:pic>
          <p:nvPicPr>
            <p:cNvPr id="82" name="Picture 3" descr="C:\Documents and Settings\sburton\Local Settings\Temporary Internet Files\Content.IE5\Y39XOFVM\MCj04381670000[1].wmf"/>
            <p:cNvPicPr/>
            <p:nvPr/>
          </p:nvPicPr>
          <p:blipFill>
            <a:blip r:embed="rId1"/>
            <a:stretch/>
          </p:blipFill>
          <p:spPr>
            <a:xfrm>
              <a:off x="3830760" y="249084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C:\Documents and Settings\sburton\Local Settings\Temporary Internet Files\Content.IE5\30GCO75N\MCj04381690000[1].wmf"/>
            <p:cNvPicPr/>
            <p:nvPr/>
          </p:nvPicPr>
          <p:blipFill>
            <a:blip r:embed="rId2"/>
            <a:stretch/>
          </p:blipFill>
          <p:spPr>
            <a:xfrm>
              <a:off x="6019920" y="236196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" descr="C:\Users\Tsu-kun\AppData\Local\Microsoft\Windows\Temporary Internet Files\Content.IE5\1B3R9PBO\MCj04322350000[1].wmf"/>
            <p:cNvPicPr/>
            <p:nvPr/>
          </p:nvPicPr>
          <p:blipFill>
            <a:blip r:embed="rId3"/>
            <a:srcRect l="0" t="0" r="0" b="19325"/>
            <a:stretch/>
          </p:blipFill>
          <p:spPr>
            <a:xfrm>
              <a:off x="3962520" y="175248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" descr="C:\Users\Tsu-kun\AppData\Local\Microsoft\Windows\Temporary Internet Files\Content.IE5\K2ZCTLF3\MCj04322650000[1].wmf"/>
            <p:cNvPicPr/>
            <p:nvPr/>
          </p:nvPicPr>
          <p:blipFill>
            <a:blip r:embed="rId4"/>
            <a:srcRect l="0" t="0" r="0" b="21734"/>
            <a:stretch/>
          </p:blipFill>
          <p:spPr>
            <a:xfrm>
              <a:off x="5791320" y="114300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Box 5"/>
          <p:cNvSpPr/>
          <p:nvPr/>
        </p:nvSpPr>
        <p:spPr>
          <a:xfrm>
            <a:off x="533520" y="1066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was a princess and the dog was a pr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猫是公主而狗是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orded Sound" descr=""/>
          <p:cNvPicPr/>
          <p:nvPr/>
        </p:nvPicPr>
        <p:blipFill>
          <a:blip r:embed="rId5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45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sburton\Local Settings\Temporary Internet Files\Content.IE5\45HGRHJD\MCj04260060000[1].wmf"/>
          <p:cNvPicPr/>
          <p:nvPr/>
        </p:nvPicPr>
        <p:blipFill>
          <a:blip r:embed="rId1"/>
          <a:stretch/>
        </p:blipFill>
        <p:spPr>
          <a:xfrm>
            <a:off x="6705720" y="1066680"/>
            <a:ext cx="1831680" cy="24228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"/>
          <p:cNvSpPr/>
          <p:nvPr/>
        </p:nvSpPr>
        <p:spPr>
          <a:xfrm>
            <a:off x="6781680" y="2133720"/>
            <a:ext cx="211320" cy="145800"/>
          </a:xfrm>
          <a:prstGeom prst="pi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066680" y="1905120"/>
            <a:ext cx="3843360" cy="3224160"/>
            <a:chOff x="1066680" y="1905120"/>
            <a:chExt cx="3843360" cy="3224160"/>
          </a:xfrm>
        </p:grpSpPr>
        <p:pic>
          <p:nvPicPr>
            <p:cNvPr id="92" name="Picture 3" descr="C:\Documents and Settings\sburton\Local Settings\Temporary Internet Files\Content.IE5\Y39XOFVM\MCj04381670000[1].wmf"/>
            <p:cNvPicPr/>
            <p:nvPr/>
          </p:nvPicPr>
          <p:blipFill>
            <a:blip r:embed="rId2"/>
            <a:stretch/>
          </p:blipFill>
          <p:spPr>
            <a:xfrm>
              <a:off x="1066680" y="3252960"/>
              <a:ext cx="148284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sburton\Local Settings\Temporary Internet Files\Content.IE5\30GCO75N\MCj04381690000[1].wmf"/>
            <p:cNvPicPr/>
            <p:nvPr/>
          </p:nvPicPr>
          <p:blipFill>
            <a:blip r:embed="rId3"/>
            <a:stretch/>
          </p:blipFill>
          <p:spPr>
            <a:xfrm>
              <a:off x="3255840" y="3124080"/>
              <a:ext cx="16477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C:\Users\Tsu-kun\AppData\Local\Microsoft\Windows\Temporary Internet Files\Content.IE5\1B3R9PBO\MCj04322350000[1].wmf"/>
            <p:cNvPicPr/>
            <p:nvPr/>
          </p:nvPicPr>
          <p:blipFill>
            <a:blip r:embed="rId4"/>
            <a:srcRect l="0" t="0" r="0" b="19325"/>
            <a:stretch/>
          </p:blipFill>
          <p:spPr>
            <a:xfrm>
              <a:off x="1198440" y="2514600"/>
              <a:ext cx="12193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" descr="C:\Users\Tsu-kun\AppData\Local\Microsoft\Windows\Temporary Internet Files\Content.IE5\K2ZCTLF3\MCj04322650000[1].wmf"/>
            <p:cNvPicPr/>
            <p:nvPr/>
          </p:nvPicPr>
          <p:blipFill>
            <a:blip r:embed="rId5"/>
            <a:srcRect l="0" t="0" r="0" b="21734"/>
            <a:stretch/>
          </p:blipFill>
          <p:spPr>
            <a:xfrm>
              <a:off x="3027240" y="1905120"/>
              <a:ext cx="188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Box 10"/>
          <p:cNvSpPr/>
          <p:nvPr/>
        </p:nvSpPr>
        <p:spPr>
          <a:xfrm>
            <a:off x="457200" y="762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, the dog’s mother fou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天，狗的妈妈找到他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6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Recorded Sound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75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1:18Z</dcterms:created>
  <dc:creator>itsuser</dc:creator>
  <dc:description/>
  <dc:language>en-US</dc:language>
  <cp:lastModifiedBy>itsuser</cp:lastModifiedBy>
  <dcterms:modified xsi:type="dcterms:W3CDTF">2009-04-23T16:15:49Z</dcterms:modified>
  <cp:revision>9</cp:revision>
  <dc:subject/>
  <dc:title>Slide 1</dc:title>
</cp:coreProperties>
</file>